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38ED-3D54-4B36-B752-DBF83582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4973-6622-4BDD-8A48-159A31CC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66C2-0F38-4A8A-BCA1-82D1F83ED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B7E3-84FA-410A-85D0-27280CC2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F458-7604-4EE0-855E-F237D6B4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5A7C-890D-4A8F-BA81-3D020C0A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E436-0B7C-4967-9AC6-2492161E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0E38-4A87-47BE-AB6F-1881A8A2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4E28-BE54-4335-8C92-77DDC49E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167D-0233-4621-81D7-47E0166F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B6DC-CA14-4339-BDA6-3CF2D070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F786-5760-4AE4-9FD7-DCF1C42C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9FA7-01B7-4043-B600-8A8B0E11D184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23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7720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Business Operations Support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Task Description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Josef Baure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 RD B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3.05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9362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ask Description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Planning Process, Support and Tool Defini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ool definit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Definition and steering of tool modification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Define scenario planning tool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Alignment global for tool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lanning proces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Owner of planning process descrip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Alignment global proces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ontrol process implementation and us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Evaluation and reporting suppor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Definition and steering availability of reporting capabilities of tool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anagement of accounts in Planning Tool (create, delete, etc.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Ensure opening and closing of project accoun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Plausibility check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Training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Tool Hotlin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9362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ask Description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Roadmap planning, controlling and reporting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a0e66"/>
                </a:solidFill>
                <a:latin typeface="Minion"/>
              </a:rPr>
              <a:t>Roadmap and scenario planning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Check availability of needed input for plann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Responsible for planning organisat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Realization of planning round (start, stop, tasks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Align global planning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a0e66"/>
                </a:solidFill>
                <a:latin typeface="Minion"/>
              </a:rPr>
              <a:t>Controlling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Controlling of planning result (Cost, Ressources, Load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Controlling of planned budget together with B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Benchmark of project effort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Align global controll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a0e66"/>
                </a:solidFill>
                <a:latin typeface="Minion"/>
              </a:rPr>
              <a:t>Reporting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Define and implement reporting structur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Ressource and budget report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3a0e66"/>
                </a:solidFill>
                <a:latin typeface="Minion"/>
              </a:rPr>
              <a:t>Align global report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9362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ask Description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udget and Portfolio alignmen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a0e66"/>
                </a:solidFill>
                <a:latin typeface="Minion"/>
              </a:rPr>
              <a:t>Budget and portfolio alignmen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Member of Malpha process team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Budget and portfolio alignment with CM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Investigation of roadmap scenario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Feasibility of features, timeline and ressourc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Align global activiti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a0e66"/>
                </a:solidFill>
                <a:latin typeface="Minion"/>
              </a:rPr>
              <a:t>Align global roadmap and portfolio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9362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ask Description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Partner managemen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a0e66"/>
                </a:solidFill>
                <a:latin typeface="Minion"/>
              </a:rPr>
              <a:t>RD supplier interface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a0e66"/>
                </a:solidFill>
                <a:latin typeface="Minion"/>
              </a:rPr>
              <a:t>Contract Management Support of: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Conceptual contract setup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Contract preparation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Contract negotioations and managemen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contract implementa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contract Q&amp;A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a0e66"/>
                </a:solidFill>
                <a:latin typeface="Minion"/>
              </a:rPr>
              <a:t>Cross functional activities/across all platforms. Support of: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strategy and business model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make or buy decis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partner selec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project tracking/steering board/escala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partner rating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feedback loop and improvemen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a0e66"/>
                </a:solidFill>
                <a:latin typeface="Minion"/>
              </a:rPr>
              <a:t>BOS USPs: not limited to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one projec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one platform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one supplier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-&gt;</a:t>
            </a: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zh-TW" sz="1400" spc="-1" strike="noStrike">
                <a:solidFill>
                  <a:srgbClr val="3a0e66"/>
                </a:solidFill>
                <a:latin typeface="Minion"/>
              </a:rPr>
              <a:t>Business focu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Roland Puscher</dc:creator>
  <dc:description/>
  <dc:language>en-US</dc:language>
  <cp:lastModifiedBy> </cp:lastModifiedBy>
  <dcterms:modified xsi:type="dcterms:W3CDTF">2006-05-24T08:57:43Z</dcterms:modified>
  <cp:revision>139</cp:revision>
  <dc:subject/>
  <dc:title>PowerPoint 簡報</dc:title>
</cp:coreProperties>
</file>